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56FF2-5D64-4C6E-A5B0-4B245C1181F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Ideal Socie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Ideal Socie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vern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government is communistic sty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ulers choose their own successo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are in power until their successor is train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control all committees that rule liv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ryone knows everyo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people would be the same stat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iminals are released after the third offen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vern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government is communistic sty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ulers choose their own successo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are in power until their successor is train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control all committees that rule liv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ryone knows everyo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people would be the same stat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iminals are released after the third offen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mily Lif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ouses are assigned by a committee after people apply for one and are observed to determine the best choi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families will have one son and one daugh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ents are responsible to train their children to live in the socie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children move out on their own, parents go live in with other ‘childless adults’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mily Lif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ouses are assigned by a committee after people apply for one and are observed to determine the best choi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families will have one son and one daugh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ents are responsible to train their children to live in the socie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children move out on their own, parents go live in with other ‘childless adults’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ving Arrang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houses look exactly the same, with identical yards, furniture, 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family has their own home, but it is owned by the socie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milies are assigned to living quart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milies stay in one home until the children move out, then they all move to various plac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ving Arrang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houses look exactly the same, with identical yards, furniture, 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family has their own home, but it is owned by the socie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milies are assigned to living quart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milies stay in one home until the children move out, then they all move to various plac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bs/Care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ults are assigned careers by a committe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start training at age 12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jobs are equal, but do create minor stat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ensation comes in the form of food and hous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rting at age 12, all people wor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bs/Care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ults are assigned careers by a committe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start training at age 12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jobs are equal, but do create minor stat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ensation comes in the form of food and hous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rting at age 12, all people wor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ldren are separated by a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hool takes up most of the day, followed by recreation or volunteer wor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ldren begin school at age three, and continue until 12 when they begin training for their job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ipline is enforced by a disciplining wand, used to swat a child on the back of the kne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ldren are separated by a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hool takes up most of the day, followed by recreation or volunteer wor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ldren begin school at age three, and continue until 12 when they begin training for their job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ipline is enforced by a disciplining wand, used to swat a child on the back of the kne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ddl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ddlers begin life by staying in the nurturing center until they are assigned famil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ring the work day, they stay in day care centers where they learn the rules, how to talk, 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are disciplined with a wand as soon as they can w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ddl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ddlers begin life by staying in the nurturing center until they are assigned famil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ring the work day, they stay in day care centers where they learn the rules, how to talk, 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are disciplined with a wand as soon as they can w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por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ryone has a bike that they use to get from place to pl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receive their bike at age 9.  Before that they either walk or ride on the back of their parents’ bik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por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ryone has a bike that they use to get from place to pl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receive their bike at age 9.  Before that they either walk or ride on the back of their parents’ bik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map of the socie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map of the socie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1A191-FC33-4540-A0DE-BD1A7EE69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DA265-59A7-442D-9570-9DDE01315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01E30-D4AD-42BC-9EE8-97BCB3840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ABFD3-90D0-4EAD-B70E-0055C9043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27455-B6E9-4193-8A63-E574AFCB5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9DB33-64B3-4E36-B685-27B1990BC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45C87-E33C-478D-BDF7-EE0361A13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57C18-AF13-4676-9FF3-5907571E0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CEE54-99F4-4ECF-9BA0-3F73FF9B4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ACC8B-5951-403B-888C-9E13F4AEE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74098-2263-4C43-9435-FB7A1EF8E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A48CE-0001-4103-90BF-76941E822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1C351-7929-4A98-8051-B6BFD6B0FE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Times New Roman"/>
              </a:rPr>
              <a:t>The Ideal Socie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4" descr="bd04912_"/>
          <p:cNvPicPr/>
          <p:nvPr/>
        </p:nvPicPr>
        <p:blipFill>
          <a:blip r:embed="rId1"/>
          <a:stretch/>
        </p:blipFill>
        <p:spPr>
          <a:xfrm>
            <a:off x="3048120" y="2286000"/>
            <a:ext cx="2773080" cy="34639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Times New Roman"/>
              </a:rPr>
              <a:t>Govern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This government is communistic sty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Rulers choose their own successo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They are in power until their successor is train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They control all committees that rule liv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Everyone knows everyo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All people would be the same statu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Criminals are released after the third offen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4" descr="bd05015_"/>
          <p:cNvPicPr/>
          <p:nvPr/>
        </p:nvPicPr>
        <p:blipFill>
          <a:blip r:embed="rId1"/>
          <a:stretch/>
        </p:blipFill>
        <p:spPr>
          <a:xfrm>
            <a:off x="1371600" y="457200"/>
            <a:ext cx="1384200" cy="152388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cc"/>
                </a:solidFill>
                <a:latin typeface="Times New Roman"/>
              </a:rPr>
              <a:t>Family Lif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Times New Roman"/>
              </a:rPr>
              <a:t>Spouses are assigned by a committee after people apply for one and are observed to determine the best choi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Times New Roman"/>
              </a:rPr>
              <a:t>All families will have one son and one daught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Times New Roman"/>
              </a:rPr>
              <a:t>Parents are responsible to train their children to live in the socie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Times New Roman"/>
              </a:rPr>
              <a:t>When children move out on their own, parents go live in with other ‘childless adults’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4" descr="pe02622_"/>
          <p:cNvPicPr/>
          <p:nvPr/>
        </p:nvPicPr>
        <p:blipFill>
          <a:blip r:embed="rId1"/>
          <a:stretch/>
        </p:blipFill>
        <p:spPr>
          <a:xfrm>
            <a:off x="6095880" y="380880"/>
            <a:ext cx="1898640" cy="1540080"/>
          </a:xfrm>
          <a:prstGeom prst="rect">
            <a:avLst/>
          </a:prstGeom>
          <a:ln w="0">
            <a:noFill/>
          </a:ln>
        </p:spPr>
      </p:pic>
    </p:spTree>
  </p:cSld>
  <p:transition spd="med">
    <p:pull dir="rd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99"/>
                </a:solidFill>
                <a:latin typeface="Times New Roman"/>
              </a:rPr>
              <a:t>Living Arrange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Times New Roman"/>
              </a:rPr>
              <a:t>All houses look exactly the same, with identical yards, furniture,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Times New Roman"/>
              </a:rPr>
              <a:t>Each family has their own home, but it is owned by the societ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Times New Roman"/>
              </a:rPr>
              <a:t>Families are assigned to living quar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Times New Roman"/>
              </a:rPr>
              <a:t>Families stay in one home until the children move out, then they all move to various plac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4" descr="bl00381_"/>
          <p:cNvPicPr/>
          <p:nvPr/>
        </p:nvPicPr>
        <p:blipFill>
          <a:blip r:embed="rId1"/>
          <a:stretch/>
        </p:blipFill>
        <p:spPr>
          <a:xfrm>
            <a:off x="3048120" y="0"/>
            <a:ext cx="2361960" cy="132084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horz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9900"/>
                </a:solidFill>
                <a:latin typeface="Times New Roman"/>
              </a:rPr>
              <a:t>Jobs/Care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Adults are assigned careers by a committe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They start training at age 12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All jobs are equal, but do create minor statu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Compensation comes in the form of food and hous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Starting at age 12, all people wor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4" descr="pe02002_"/>
          <p:cNvPicPr/>
          <p:nvPr/>
        </p:nvPicPr>
        <p:blipFill>
          <a:blip r:embed="rId1"/>
          <a:stretch/>
        </p:blipFill>
        <p:spPr>
          <a:xfrm>
            <a:off x="1066680" y="304920"/>
            <a:ext cx="1825920" cy="18288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5" descr="bs00508_"/>
          <p:cNvPicPr/>
          <p:nvPr/>
        </p:nvPicPr>
        <p:blipFill>
          <a:blip r:embed="rId2"/>
          <a:stretch/>
        </p:blipFill>
        <p:spPr>
          <a:xfrm>
            <a:off x="6477120" y="304920"/>
            <a:ext cx="1574640" cy="166212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3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8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3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8" dur="5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3" dur="50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Times New Roman"/>
              </a:rPr>
              <a:t>Schoo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Children are separated by a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School takes up most of the day, followed by recreation or volunteer wor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Children begin school at age three, and continue until 12 when they begin training for their job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Discipline is enforced by a disciplining wand, used to swat a child on the back of the kne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4" descr="pe03254_"/>
          <p:cNvPicPr/>
          <p:nvPr/>
        </p:nvPicPr>
        <p:blipFill>
          <a:blip r:embed="rId1"/>
          <a:stretch/>
        </p:blipFill>
        <p:spPr>
          <a:xfrm>
            <a:off x="6019920" y="762120"/>
            <a:ext cx="1406520" cy="126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0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5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0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5" dur="5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ff"/>
                </a:solidFill>
                <a:latin typeface="Times New Roman"/>
              </a:rPr>
              <a:t>Toddl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cc"/>
                </a:solidFill>
                <a:latin typeface="Times New Roman"/>
              </a:rPr>
              <a:t>Toddlers begin life by staying in the nurturing center until they are assigned famil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cc"/>
                </a:solidFill>
                <a:latin typeface="Times New Roman"/>
              </a:rPr>
              <a:t>During the work day, they stay in day care centers where they learn the rules, how to talk,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cc"/>
                </a:solidFill>
                <a:latin typeface="Times New Roman"/>
              </a:rPr>
              <a:t>They are disciplined with a wand as soon as they can wal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4" descr="pe02043_"/>
          <p:cNvPicPr/>
          <p:nvPr/>
        </p:nvPicPr>
        <p:blipFill>
          <a:blip r:embed="rId1"/>
          <a:stretch/>
        </p:blipFill>
        <p:spPr>
          <a:xfrm>
            <a:off x="380880" y="533520"/>
            <a:ext cx="120024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2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7" dur="5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2" dur="5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99"/>
                </a:solidFill>
                <a:latin typeface="Times New Roman"/>
              </a:rPr>
              <a:t>Transpor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1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Times New Roman"/>
              </a:rPr>
              <a:t>Everyone has a bike that they use to get from place to pla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Times New Roman"/>
              </a:rPr>
              <a:t>They receive their bike at age 9.  Before that they either walk or ride on the back of their parents’ bi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4" descr="bd07304_"/>
          <p:cNvPicPr/>
          <p:nvPr/>
        </p:nvPicPr>
        <p:blipFill>
          <a:blip r:embed="rId1"/>
          <a:stretch/>
        </p:blipFill>
        <p:spPr>
          <a:xfrm>
            <a:off x="5486400" y="4572000"/>
            <a:ext cx="1822320" cy="1812960"/>
          </a:xfrm>
          <a:prstGeom prst="rect">
            <a:avLst/>
          </a:prstGeom>
          <a:ln w="0">
            <a:noFill/>
          </a:ln>
        </p:spPr>
      </p:pic>
    </p:spTree>
  </p:cSld>
  <p:transition spd="med">
    <p:wipe dir="u"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The-Giver-Map"/>
          <p:cNvPicPr/>
          <p:nvPr/>
        </p:nvPicPr>
        <p:blipFill>
          <a:blip r:embed="rId1"/>
          <a:stretch/>
        </p:blipFill>
        <p:spPr>
          <a:xfrm>
            <a:off x="533520" y="1752480"/>
            <a:ext cx="8305560" cy="3808440"/>
          </a:xfrm>
          <a:prstGeom prst="rect">
            <a:avLst/>
          </a:prstGeom>
          <a:ln w="0">
            <a:noFill/>
          </a:ln>
        </p:spPr>
      </p:pic>
      <p:sp>
        <p:nvSpPr>
          <p:cNvPr id="73" name="Text Box 3"/>
          <p:cNvSpPr/>
          <p:nvPr/>
        </p:nvSpPr>
        <p:spPr>
          <a:xfrm>
            <a:off x="1981080" y="685800"/>
            <a:ext cx="5486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A map of the socie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in"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3T17:03:22Z</dcterms:created>
  <dc:creator>khicks</dc:creator>
  <dc:description>The Ideal Society</dc:description>
  <cp:keywords>The Ideal Society</cp:keywords>
  <dc:language>en-US</dc:language>
  <cp:lastModifiedBy>RomaK</cp:lastModifiedBy>
  <dcterms:modified xsi:type="dcterms:W3CDTF">2015-09-04T10:39:29Z</dcterms:modified>
  <cp:revision>19</cp:revision>
  <dc:subject>The Ideal Society</dc:subject>
  <dc:title>The Ideal Society</dc:title>
</cp:coreProperties>
</file>